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E17B-8340-4CA4-A2B5-4ABCD735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1B8C-3DC2-47D4-A80A-CFC1D6D8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143D-7806-4EEA-BA72-4BB9B3897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F4B5-9B45-40F1-96C0-7304B3F73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7346F-1901-4A1A-AAA0-3A1E64EAB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1E800-647E-493E-BA5D-A7F15D13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8F299-F47B-4169-BE0D-DCF839B5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D4397-1EF2-4C8A-93FB-AD450BED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7D02C-2781-4D35-8A97-E0B385D2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8B716-D97F-46D5-8FAB-64B53D12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B81CD-5391-4799-AE15-B6BA32F7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3700-F11A-4B93-AEA2-32713B77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4C237-BD44-4A94-802C-417B7D1B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434E7-4748-4789-BC49-030829FA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98CED-213A-4C99-90D5-32DF1776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FE4DA-3683-4E16-8EDF-43BC64A96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11342-C135-4332-97B5-1DB6D2341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0F6A-847F-4F4E-879A-035B78E3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E71F-B5BF-4595-8AC3-CFB736C4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B1C4-340C-4D7C-BD7A-47DAFB51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72E8-A35F-41EF-914B-A71346D0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37A6-DFB6-41BE-8EAD-FE379A02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EFAF-47C7-4FCD-902E-C230FF3A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682F-E2BE-4969-990C-625115DA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90EE-ACA7-46DE-825D-F0B0507195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9A54-2813-4778-AB1A-788BA5B054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pic>
        <p:nvPicPr>
          <p:cNvPr id="83" name="Picture 16" descr="scistartlogo2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84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Cell Membrane 2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85" name="Picture 8" descr="C:\Users\Liz\AppData\Local\Microsoft\Windows\Temporary Internet Files\Content.IE5\CPHVRLKO\MCj02296450000[1].wmf"/>
          <p:cNvPicPr/>
          <p:nvPr/>
        </p:nvPicPr>
        <p:blipFill>
          <a:blip r:embed="rId3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happens when oil and water are put together in a bowl and are stirred?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ain what occurs and tell wh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5:32:16Z</dcterms:created>
  <dc:creator>PritchaJ</dc:creator>
  <dc:description/>
  <dc:language>en-US</dc:language>
  <cp:lastModifiedBy>PritchaJ</cp:lastModifiedBy>
  <dcterms:modified xsi:type="dcterms:W3CDTF">2011-06-01T15:32:50Z</dcterms:modified>
  <cp:revision>1</cp:revision>
  <dc:subject/>
  <dc:title>Slide 1</dc:title>
</cp:coreProperties>
</file>